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E84-8FF4-4FF2-A6E1-A7A2EE36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B12-6A51-448C-969D-0ED6C8B9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BF4-D2AE-448B-8BA3-C611407F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83F-E071-4331-BC81-94418488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264-9693-4870-8EDA-85483D42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9A1-5401-4A21-8BCA-4CCB9E9E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6F1-D3E2-4656-8D60-E2E4D609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4B0-CA30-4A39-9762-600F02C8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B17-187C-4597-9413-2E252E2D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236-5A6B-49EA-B9B1-DB9986A2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029-F4D3-4A94-BF5A-3BCF052D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52D-1C33-4C62-B349-F3FEFDF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1E48-DDAC-49C5-AD34-269B9E428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-economic model for assessing and anticipating economic impacts of RWMs in the Nile 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736560"/>
            <a:ext cx="8153280" cy="80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odel type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gramming (optimizatio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Purpose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ework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u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onomic impacts of RW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Indicator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rm income/prof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Model structure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fit = Gross income –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962520" y="1828800"/>
            <a:ext cx="1752480" cy="685800"/>
          </a:xfrm>
          <a:prstGeom prst="rect">
            <a:avLst/>
          </a:prstGeom>
          <a:solidFill>
            <a:srgbClr val="1f49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y </a:t>
            </a:r>
            <a:r>
              <a:rPr b="0" lang="en-US" sz="1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   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5"/>
          <p:cNvCxnSpPr/>
          <p:nvPr/>
        </p:nvCxnSpPr>
        <p:spPr>
          <a:xfrm>
            <a:off x="5333760" y="137160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Rectangle 6"/>
          <p:cNvSpPr/>
          <p:nvPr/>
        </p:nvSpPr>
        <p:spPr>
          <a:xfrm>
            <a:off x="6095880" y="1828800"/>
            <a:ext cx="1752840" cy="685800"/>
          </a:xfrm>
          <a:prstGeom prst="rect">
            <a:avLst/>
          </a:prstGeom>
          <a:solidFill>
            <a:srgbClr val="1f49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x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8"/>
          <p:cNvCxnSpPr/>
          <p:nvPr/>
        </p:nvCxnSpPr>
        <p:spPr>
          <a:xfrm>
            <a:off x="6972120" y="137160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Rectangle 9"/>
          <p:cNvSpPr/>
          <p:nvPr/>
        </p:nvSpPr>
        <p:spPr>
          <a:xfrm>
            <a:off x="1371600" y="2819520"/>
            <a:ext cx="4343400" cy="175248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 fed crops (1, 2, 3, …, 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ed crops (1, 2, 3, …, 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15"/>
          <p:cNvCxnSpPr/>
          <p:nvPr/>
        </p:nvCxnSpPr>
        <p:spPr>
          <a:xfrm>
            <a:off x="5310000" y="251460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Rectangle 18"/>
          <p:cNvSpPr/>
          <p:nvPr/>
        </p:nvSpPr>
        <p:spPr>
          <a:xfrm>
            <a:off x="1371600" y="5029200"/>
            <a:ext cx="72388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ze = f(land, fert., labor,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TP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Sept. – Oct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mato = f(land, fert., labor,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r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 flipH="1">
            <a:off x="914400" y="3200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25"/>
          <p:cNvSpPr/>
          <p:nvPr/>
        </p:nvSpPr>
        <p:spPr>
          <a:xfrm>
            <a:off x="914400" y="320040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27"/>
          <p:cNvCxnSpPr/>
          <p:nvPr/>
        </p:nvCxnSpPr>
        <p:spPr>
          <a:xfrm>
            <a:off x="914400" y="540972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Straight Connector 2"/>
          <p:cNvSpPr/>
          <p:nvPr/>
        </p:nvSpPr>
        <p:spPr>
          <a:xfrm flipH="1">
            <a:off x="609120" y="3730680"/>
            <a:ext cx="8334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0"/>
          <p:cNvSpPr/>
          <p:nvPr/>
        </p:nvSpPr>
        <p:spPr>
          <a:xfrm>
            <a:off x="609480" y="3730680"/>
            <a:ext cx="0" cy="20606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12"/>
          <p:cNvCxnSpPr/>
          <p:nvPr/>
        </p:nvCxnSpPr>
        <p:spPr>
          <a:xfrm>
            <a:off x="609120" y="5790960"/>
            <a:ext cx="83916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457200" y="1295280"/>
                <a:ext cx="800100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ofi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h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source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ra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egativit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ra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1371600" y="4038480"/>
                <a:ext cx="5791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59" name="Straight Arrow Connector 13"/>
          <p:cNvCxnSpPr/>
          <p:nvPr/>
        </p:nvCxnSpPr>
        <p:spPr>
          <a:xfrm flipH="1">
            <a:off x="1751760" y="1904760"/>
            <a:ext cx="2667960" cy="243900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Specification, calibration, and si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d           EVT      Supp.I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8"/>
          <p:cNvCxnSpPr/>
          <p:nvPr/>
        </p:nvCxnSpPr>
        <p:spPr>
          <a:xfrm>
            <a:off x="3276360" y="4952520"/>
            <a:ext cx="108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22"/>
          <p:cNvCxnSpPr/>
          <p:nvPr/>
        </p:nvCxnSpPr>
        <p:spPr>
          <a:xfrm>
            <a:off x="4647960" y="4952520"/>
            <a:ext cx="108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24"/>
          <p:cNvCxnSpPr/>
          <p:nvPr/>
        </p:nvCxnSpPr>
        <p:spPr>
          <a:xfrm>
            <a:off x="6019560" y="4952520"/>
            <a:ext cx="1080" cy="38196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Data nee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op (activity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put and input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T and irrigation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data needs for calib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linearity (captures effects of heterogene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simulation at all levels of scenari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WMs, yield, resource constraint, mix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en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as packages, etc …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6:11:55Z</dcterms:created>
  <dc:creator>Getnet, Kinde (IWMI)</dc:creator>
  <dc:description/>
  <dc:language>en-US</dc:language>
  <cp:lastModifiedBy>Getnet, Kinde (IWMI)</cp:lastModifiedBy>
  <dcterms:modified xsi:type="dcterms:W3CDTF">2011-02-25T06:17:03Z</dcterms:modified>
  <cp:revision>27</cp:revision>
  <dc:subject/>
  <dc:title>Bio-economic model for assessing and anticipating economic values</dc:title>
</cp:coreProperties>
</file>